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ct" ContentType="image/x-pict"/>
  <Override PartName="/ppt/media/image5.pct" ContentType="image/x-pict"/>
  <Override PartName="/ppt/media/image28.pct" ContentType="image/x-pict"/>
  <Override PartName="/ppt/media/image10.pct" ContentType="image/x-pict"/>
  <Override PartName="/ppt/media/image6.pct" ContentType="image/x-pict"/>
  <Override PartName="/ppt/media/image29.pct" ContentType="image/x-pict"/>
  <Override PartName="/ppt/media/image11.pct" ContentType="image/x-pict"/>
  <Override PartName="/ppt/media/image1.png" ContentType="image/png"/>
  <Override PartName="/ppt/media/image12.pct" ContentType="image/x-pict"/>
  <Override PartName="/ppt/media/image7.pct" ContentType="image/x-pict"/>
  <Override PartName="/ppt/media/image2.png" ContentType="image/png"/>
  <Override PartName="/ppt/media/image13.pct" ContentType="image/x-pict"/>
  <Override PartName="/ppt/media/image8.pct" ContentType="image/x-pict"/>
  <Override PartName="/ppt/media/image9.pct" ContentType="image/x-pict"/>
  <Override PartName="/ppt/media/image4.pct" ContentType="image/x-pict"/>
  <Override PartName="/ppt/media/image27.pct" ContentType="image/x-pict"/>
  <Override PartName="/ppt/media/image30.pct" ContentType="image/x-pict"/>
  <Override PartName="/ppt/media/image3.png" ContentType="image/png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media/image18.pct" ContentType="image/x-pict"/>
  <Override PartName="/ppt/media/image20.pct" ContentType="image/x-pict"/>
  <Override PartName="/ppt/media/image19.pct" ContentType="image/x-pict"/>
  <Override PartName="/ppt/media/image21.pct" ContentType="image/x-pict"/>
  <Override PartName="/ppt/media/image22.pct" ContentType="image/x-pict"/>
  <Override PartName="/ppt/media/image23.pct" ContentType="image/x-pict"/>
  <Override PartName="/ppt/media/image24.pct" ContentType="image/x-pict"/>
  <Override PartName="/ppt/media/image2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CC6-A450-448A-9688-7F8091DB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B72-B949-43C0-8AF2-EC4A976F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740-9650-45BC-A7EE-E13C08AD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C83-9ED8-4E05-9B5B-9737D0C5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D17F-3922-4CAB-B6E3-BE7ED2A3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E92F-5EF8-4B40-943A-6D5E6D84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FA5D-3102-4151-88B5-32037EB4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C18D-2310-40A7-96AD-79E005CE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8840-A171-4FD4-A661-E06CB2B2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5F88-9593-4745-ADDA-A56CF7C7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13EB-BFFF-4D06-AE4E-793AB99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06F-D31E-463B-A75A-1692DE00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F815-7A5A-4F06-81B9-1566FA7B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8C0A-883E-4DBE-B5E1-29FEF29B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64B-2F0D-4907-99CC-3DE6F0B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BBD8-2E8D-4745-9BE5-B4905BDB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D6BD-2032-45C9-976C-054DB667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2C6-E064-4F71-BB23-E5C5C6D3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FC8-2A58-42B8-82AF-07A97959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EBF-D0B2-414E-A311-536334FE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75A-B200-4BC8-98BD-D10C6EF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747-A29F-47DA-A34C-D3A6C10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A5C-D6E2-4F5D-BA88-BBDA863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77B-54C2-4DC7-8FFF-8A6F8AC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916B-F35C-48DB-B43D-826D28E6CBE6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8A85-A20C-4954-BC4D-2C28CD1F2EA8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GEBRA 2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UNIT 1 TEST REVIEW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AL NUMBERS AND EQUATION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N, W, I, 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1752480"/>
          <a:ext cx="34401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3440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14600" y="2362320"/>
          <a:ext cx="3651120" cy="28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65112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314880" y="2438280"/>
          <a:ext cx="27810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2438280"/>
                    <a:ext cx="27810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100" spc="-1" strike="noStrike">
                <a:solidFill>
                  <a:srgbClr val="330000"/>
                </a:solidFill>
                <a:latin typeface="Arial"/>
              </a:rPr>
              <a:t>Ir,R</a:t>
            </a:r>
            <a:endParaRPr b="0" lang="en-US" sz="171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1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-10 + 0 + 3 = -10 + 3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xyz is a real numb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0 = 7 + -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5(a+8)=5(8+a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ty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osure of Multipl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erse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mutative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 15 + -2) + 7 = 7 + (15 + -2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5(x + 2) = 5x + 10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5x + 1) + 4 = 5x + (1 + 4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5257800"/>
          <a:ext cx="297180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257800"/>
                    <a:ext cx="29718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-8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mutative of Additio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tributi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sociative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sociative of Multipl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5(1)=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+b is a real numb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209680"/>
          <a:ext cx="220968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20968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62120" y="3581280"/>
          <a:ext cx="502920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50292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erse of Multiplicatio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mutative of Multipl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ty of Multipl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osure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895480"/>
          <a:ext cx="83120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83120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73280" y="2590920"/>
          <a:ext cx="339408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3280" y="2590920"/>
                    <a:ext cx="339408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12920" y="2773440"/>
          <a:ext cx="660060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2773440"/>
                    <a:ext cx="66006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90920" y="2743200"/>
          <a:ext cx="305424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05424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2133720"/>
          <a:ext cx="4572000" cy="22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33720"/>
                    <a:ext cx="45720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2209680"/>
          <a:ext cx="4572000" cy="33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09680"/>
                    <a:ext cx="457200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68520" y="2786040"/>
          <a:ext cx="631332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2786040"/>
                    <a:ext cx="6313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-8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00200" y="2133720"/>
          <a:ext cx="631332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631332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62040" y="2604960"/>
          <a:ext cx="81280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2604960"/>
                    <a:ext cx="81280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2438280"/>
          <a:ext cx="8128080" cy="26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812808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62040" y="2604960"/>
          <a:ext cx="81280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2604960"/>
                    <a:ext cx="81280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15920" y="2133720"/>
          <a:ext cx="8128080" cy="36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133720"/>
                    <a:ext cx="8128080" cy="36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2120" y="2604960"/>
          <a:ext cx="838188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04960"/>
                    <a:ext cx="838188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2666880"/>
          <a:ext cx="838188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8381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how your check.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2666880"/>
          <a:ext cx="838188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8381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how your check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2362320"/>
          <a:ext cx="76960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62320"/>
                    <a:ext cx="76960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 for x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429000" y="2193840"/>
          <a:ext cx="304812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193840"/>
                    <a:ext cx="30481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2819520"/>
            <a:ext cx="5790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I, 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 for x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47920" y="2057400"/>
          <a:ext cx="704844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70484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 for x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743200" y="2362320"/>
          <a:ext cx="330192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3019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 for x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905120" y="2209680"/>
          <a:ext cx="495288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209680"/>
                    <a:ext cx="495288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0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W, I, 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2819520"/>
            <a:ext cx="5486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0000"/>
                </a:solidFill>
                <a:latin typeface="Arial"/>
              </a:rPr>
              <a:t>-9.2178…</a:t>
            </a:r>
            <a:endParaRPr b="0" lang="en-US" sz="8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Ir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52680" y="2209680"/>
          <a:ext cx="26542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09680"/>
                    <a:ext cx="2654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28:59Z</dcterms:created>
  <dc:creator>PA Department of Education</dc:creator>
  <dc:description/>
  <dc:language>en-US</dc:language>
  <cp:lastModifiedBy>PA Department of Education</cp:lastModifiedBy>
  <dcterms:modified xsi:type="dcterms:W3CDTF">2008-09-22T19:43:59Z</dcterms:modified>
  <cp:revision>10</cp:revision>
  <dc:subject/>
  <dc:title>ALGEBRA 2  UNIT 1 TEST REVIEW</dc:title>
</cp:coreProperties>
</file>